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2633-4CF6-4CAF-AF6C-840FBA38E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1C89-4CD1-4DD9-8189-D1D35BCC6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fdc/welcome_mjx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25FD-6AA6-403A-8352-087FC933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46E5-C13B-4593-AD92-D9ACDB989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FD88-F8BA-4D7C-BC0B-F5A10AD33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3DE4-4EBF-48AF-9FB6-4C8175A2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icense.umn.edu/Products/Implantable-Microvalve-Device-for-Controlled-Insulin-Delivery-in-Type-1-Diabetes-Patients__Z02003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3CAC-B0E5-424C-830B-87CF92CD7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Plas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6080-A3F3-4762-94AB-1B595BAFB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68DD-7A1F-465B-AF62-7C976C35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7050-424F-4E1B-92ED-AC296FD3D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on this slide &amp; next are from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s-cool.co.uk/a-level/biology/genetic-engineering/revise-it/transferring-the-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0954-FC47-4CDA-B1E6-745A3089E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C4C0-22E9-4B98-9F6E-068BDE08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bfrontier.com/cs/gene.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10D8-0411-4A6A-8371-E428CD7B0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D233-763C-47AB-9E0D-B4076DFB1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Griffith's_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strain took up plasmids from heat-killed S strain, causing transformation of R cells into S cells (since the protein that produced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ating was coded for in the 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D771-FA26-433B-A9AF-4353C2CC6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39B0-BBD4-45F7-A9E3-0C2456BA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A689-6D09-4994-B5AF-346655B3D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utexas.edu/faculty/sjasper/bio212/biotec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6332-95B7-4DBE-ADAD-952C5EC9A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0AD6-DD2C-4A88-BB9A-0FEA90449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arleyworld.org/css430_09/lecture%208-09/notes8-0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E9F1-3556-420C-8F58-AC3B94C3F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restriction-endonucleases-or-restriction-enzyme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B1C6-09B7-4183-8707-A217E30EA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bsp.med.harvard.edu/node/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naccurate about this image?  Recognition sequence is not palindro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F93D-8A75-42EA-8092-9FEF8745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Plas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B4D-F340-4EF8-8D62-D90F5141B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uf.rice.edu/~bioslabs/bios111/bios111_day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3388-2F59-4A2A-A86C-FF7FCAFE4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98B-479B-4784-80D7-071A319A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8AB-E826-4154-A23B-2DF350A1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0A3-8B82-4AD0-9340-96A50729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BDF-A3F5-4E7C-B693-562D8511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A91-16D0-4A60-9333-CCABC191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8C1-C9DC-4CD6-8289-46B70C95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924-FDF6-4D88-8B68-312952CE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4F9-931C-415E-A1C0-A56D3D18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3A7-843D-4170-8D8E-FDFCA84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658-18D5-428B-BD5B-B76D4964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87E-AC6A-4AA4-AB2D-BBEC7A22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AA3-D71F-46D0-B192-191A8913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AAEF-5F9D-4C58-A962-AA5430D8F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 - Manipulating &amp; Cloning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#1 (p.3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Z unc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Z cut with Ec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Z cut with P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Z cut with EcoRI and P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#2 (p.3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W  unc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W cut with Hind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W cut with Bam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W cut with HindIII and Bam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#3 (p.37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981080"/>
          <a:ext cx="7772400" cy="394200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880"/>
                <a:gridCol w="1110960"/>
                <a:gridCol w="1109880"/>
                <a:gridCol w="1111320"/>
                <a:gridCol w="1109520"/>
              </a:tblGrid>
              <a:tr h="158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H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RI + BamH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RI + Sma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HI + Sma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RI + BamHI + Sma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 safflower plants) has been engineered to produce human insulin.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insulin"/>
          <p:cNvPicPr/>
          <p:nvPr/>
        </p:nvPicPr>
        <p:blipFill>
          <a:blip r:embed="rId1"/>
          <a:stretch/>
        </p:blipFill>
        <p:spPr>
          <a:xfrm>
            <a:off x="5183280" y="1981080"/>
            <a:ext cx="273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insulin gene can be introduced to plasmids (recombinant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ids can be introduced to bacteria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300px-Plasmid_(english)"/>
          <p:cNvPicPr/>
          <p:nvPr/>
        </p:nvPicPr>
        <p:blipFill>
          <a:blip r:embed="rId1"/>
          <a:stretch/>
        </p:blipFill>
        <p:spPr>
          <a:xfrm>
            <a:off x="4648320" y="3143160"/>
            <a:ext cx="38098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ids as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can be inserted into plasmids using restriction enzymes and DNA lig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n introduce these genes i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lasmids determines how much protein will b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ig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lig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to attach restriction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imple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dnalc.org/resources/animations/restrictio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circle1"/>
          <p:cNvPicPr/>
          <p:nvPr/>
        </p:nvPicPr>
        <p:blipFill>
          <a:blip r:embed="rId1"/>
          <a:stretch/>
        </p:blipFill>
        <p:spPr>
          <a:xfrm>
            <a:off x="1136520" y="609480"/>
            <a:ext cx="2908440" cy="259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circle2"/>
          <p:cNvPicPr/>
          <p:nvPr/>
        </p:nvPicPr>
        <p:blipFill>
          <a:blip r:embed="rId2"/>
          <a:stretch/>
        </p:blipFill>
        <p:spPr>
          <a:xfrm>
            <a:off x="4572000" y="770040"/>
            <a:ext cx="3886200" cy="22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3halfcircles"/>
          <p:cNvPicPr/>
          <p:nvPr/>
        </p:nvPicPr>
        <p:blipFill>
          <a:blip r:embed="rId3"/>
          <a:stretch/>
        </p:blipFill>
        <p:spPr>
          <a:xfrm>
            <a:off x="1955880" y="3429000"/>
            <a:ext cx="5154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circle3"/>
          <p:cNvPicPr/>
          <p:nvPr/>
        </p:nvPicPr>
        <p:blipFill>
          <a:blip r:embed="rId1"/>
          <a:stretch/>
        </p:blipFill>
        <p:spPr>
          <a:xfrm>
            <a:off x="1176480" y="609480"/>
            <a:ext cx="282708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ircle4"/>
          <p:cNvPicPr/>
          <p:nvPr/>
        </p:nvPicPr>
        <p:blipFill>
          <a:blip r:embed="rId2"/>
          <a:stretch/>
        </p:blipFill>
        <p:spPr>
          <a:xfrm>
            <a:off x="5106960" y="609480"/>
            <a:ext cx="2814840" cy="259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ircle5"/>
          <p:cNvPicPr/>
          <p:nvPr/>
        </p:nvPicPr>
        <p:blipFill>
          <a:blip r:embed="rId3"/>
          <a:stretch/>
        </p:blipFill>
        <p:spPr>
          <a:xfrm>
            <a:off x="1193760" y="3429000"/>
            <a:ext cx="2716200" cy="26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smallcircle"/>
          <p:cNvPicPr/>
          <p:nvPr/>
        </p:nvPicPr>
        <p:blipFill>
          <a:blip r:embed="rId4"/>
          <a:stretch/>
        </p:blipFill>
        <p:spPr>
          <a:xfrm>
            <a:off x="5081760" y="3429000"/>
            <a:ext cx="2865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gene_cloning_img1"/>
          <p:cNvPicPr/>
          <p:nvPr/>
        </p:nvPicPr>
        <p:blipFill>
          <a:blip r:embed="rId1"/>
          <a:stretch/>
        </p:blipFill>
        <p:spPr>
          <a:xfrm>
            <a:off x="685800" y="985680"/>
            <a:ext cx="77724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produced by bacteria to function as a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ainst invading viruses by cutting up the viral DNA or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remember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450px-Griffith_experiment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introduction of plasmid (with recombinant DNA) to bacteri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can be ma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placing in 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 (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s neutralize the phosphate groups on the membrane, heating &amp; cooling disrupt cell membra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that shows engineering of plasmids with characteristics of 2 anti-biotic strains of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their introduc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nalc.org/resources/animations/transformation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 explana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www.s-cool.co.uk/a-level/biology/genetic-engineering/revise-it/transferring-the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2" descr="20.4.gif"/>
          <p:cNvPicPr/>
          <p:nvPr/>
        </p:nvPicPr>
        <p:blipFill>
          <a:blip r:embed="rId1"/>
          <a:srcRect l="-87377" t="0" r="-87377" b="0"/>
          <a:stretch/>
        </p:blipFill>
        <p:spPr>
          <a:xfrm>
            <a:off x="395280" y="141300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 enzymes cut DNA at a specif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gnition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sites are alway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indr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(same sequence when read from the 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rection on either str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figure-11-04"/>
          <p:cNvPicPr/>
          <p:nvPr/>
        </p:nvPicPr>
        <p:blipFill>
          <a:blip r:embed="rId1"/>
          <a:stretch/>
        </p:blipFill>
        <p:spPr>
          <a:xfrm>
            <a:off x="1155600" y="1752480"/>
            <a:ext cx="675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nt Ends vs. Sticky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restrictionenzyme"/>
          <p:cNvPicPr/>
          <p:nvPr/>
        </p:nvPicPr>
        <p:blipFill>
          <a:blip r:embed="rId1"/>
          <a:stretch/>
        </p:blipFill>
        <p:spPr>
          <a:xfrm>
            <a:off x="685800" y="2606760"/>
            <a:ext cx="77724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RE"/>
          <p:cNvPicPr/>
          <p:nvPr/>
        </p:nvPicPr>
        <p:blipFill>
          <a:blip r:embed="rId1"/>
          <a:stretch/>
        </p:blipFill>
        <p:spPr>
          <a:xfrm>
            <a:off x="685800" y="1235160"/>
            <a:ext cx="777240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pieces of non-chromosomal DNA found in bacteria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to bacteria through conjugation &amp;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300px-Plasmid_(english)"/>
          <p:cNvPicPr/>
          <p:nvPr/>
        </p:nvPicPr>
        <p:blipFill>
          <a:blip r:embed="rId1"/>
          <a:stretch/>
        </p:blipFill>
        <p:spPr>
          <a:xfrm>
            <a:off x="4648320" y="3143160"/>
            <a:ext cx="38098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lasmid_map"/>
          <p:cNvPicPr/>
          <p:nvPr/>
        </p:nvPicPr>
        <p:blipFill>
          <a:blip r:embed="rId1"/>
          <a:stretch/>
        </p:blipFill>
        <p:spPr>
          <a:xfrm>
            <a:off x="1825560" y="198108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estriction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utorial 1: p.370-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Problem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3200400"/>
          <a:ext cx="8229600" cy="3508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X undiges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X digested with Eco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X digested with BamH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X digested with EcoRI and BamH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26:53Z</dcterms:created>
  <dc:creator>rubina khan</dc:creator>
  <dc:description/>
  <dc:language>en-US</dc:language>
  <cp:lastModifiedBy>rubina khan</cp:lastModifiedBy>
  <dcterms:modified xsi:type="dcterms:W3CDTF">2017-04-11T02:25:20Z</dcterms:modified>
  <cp:revision>229</cp:revision>
  <dc:subject/>
  <dc:title>Biotechnological Tools and Techniques</dc:title>
</cp:coreProperties>
</file>